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0ED-2B2E-48BA-B87E-5DDC26DD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EF5-D694-4E4E-ACCE-192C795A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256-0E10-4E37-A6F1-7C1FBE11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AC4-4167-4EA3-A0C0-2519758E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08BB-3855-450E-B5F1-F531B0A0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878A-34AF-4DE7-933C-51D91211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1941-F8EF-40E7-BA9B-9D2F0517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6CB8-23AD-4BD2-9942-D84FD826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CC83-A03D-4186-B53C-EC4916A7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371C-E624-49CA-A9C7-9CD67752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CF5F-DB6A-4237-BD68-1D4ED425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76B-E561-4633-BAB7-B9F28F4E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9B8B-A70F-49EA-A178-64373E5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4A5E-D668-4B3D-A611-79AB1C6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6C61-8FDD-463D-A477-6EB7577B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3167-29DF-4A3D-87C2-A8A73A1D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430B-7581-491E-9460-ED72625F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F395-252D-42AF-B011-6D184AF4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DB54-8FD2-4810-85D0-E4B81E07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9DBF-8A04-4A8C-8392-E45859C1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45EA9-A8D8-4344-B2D8-F2A3D49E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136F-E28C-4F92-AD1D-5B2FDA5E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386-B808-46F2-BE63-23B9D8B1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297C-814E-46CA-8DDD-58058A6B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B2AB-5406-44C3-9766-1A893C38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7E44-4D41-46D3-9E71-225D72D6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CA6E-60E6-4F5F-ACB9-E055445F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0421-9EAA-4E21-BC88-8673BDDE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ECB4-26F1-40CB-8B1C-8A88D404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F04D7-20B5-4F4E-979C-204F3854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014-CE3B-4358-9143-3B11EEF7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7D1-BE1E-4A15-A25E-E00544EB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5A1-5269-43C2-8729-0DB76B61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2C3-0B42-409F-A567-6568F452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213-2DD1-4495-9AC4-CF31433A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B01-4506-4968-93C8-477EBDA2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C4A4-267D-4D38-A86A-AA04A5A137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F7AC-ED1F-4F27-9ECD-966DEE158F9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028C-F89B-4C5E-854B-A39E15CA0BC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246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итломания в мире или феномен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atles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ыполнил: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Габов Русла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5" descr="beetls"/>
          <p:cNvPicPr/>
          <p:nvPr/>
        </p:nvPicPr>
        <p:blipFill>
          <a:blip r:embed="rId1"/>
          <a:stretch/>
        </p:blipFill>
        <p:spPr>
          <a:xfrm>
            <a:off x="1676520" y="2895480"/>
            <a:ext cx="58672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Что мы узнаем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1)  Чем можно объяснить потрясающую популярность «великолепной четверки», которая создала настоящую молодежную субкультуру, оказавшую и продолжающую оказывать влияние на всю западную культуру в целом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2) В чем феномен "Битлз"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3) Каким образом они властвовали над умами нескольких поколений тинэйджеров и стали символом молодежного протест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4) Почему они оказали серьезное влияние на мировое направление моды, торговлю, промышленность, быт и искусство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5" descr="d06is037"/>
          <p:cNvPicPr/>
          <p:nvPr/>
        </p:nvPicPr>
        <p:blipFill>
          <a:blip r:embed="rId1"/>
          <a:stretch/>
        </p:blipFill>
        <p:spPr>
          <a:xfrm>
            <a:off x="4114800" y="685800"/>
            <a:ext cx="4632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Зачем нам это нужно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8" name="Picture 5" descr="LIB4"/>
          <p:cNvPicPr/>
          <p:nvPr/>
        </p:nvPicPr>
        <p:blipFill>
          <a:blip r:embed="rId1"/>
          <a:stretch/>
        </p:blipFill>
        <p:spPr>
          <a:xfrm>
            <a:off x="1295280" y="1752480"/>
            <a:ext cx="632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2" descr=""/>
          <p:cNvPicPr/>
          <p:nvPr/>
        </p:nvPicPr>
        <p:blipFill>
          <a:blip r:embed="rId1"/>
          <a:stretch/>
        </p:blipFill>
        <p:spPr>
          <a:xfrm>
            <a:off x="365040" y="285840"/>
            <a:ext cx="85536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едставление результатов исследования</a:t>
            </a: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: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оклад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чинен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ворческое задание – инсценировк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езент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План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этап (1 ур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ведение в тему проекта. Просмотр  презентации уч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этап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иск информации по данной теме. Самостоятельная работа учащих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этап (1 ур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и учеников. Подведение итог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6-02T16:01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